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2720" y="549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ynthes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endCxn id="100" idx="1"/>
          </p:cNvCxnSpPr>
          <p:nvPr/>
        </p:nvCxnSpPr>
        <p:spPr>
          <a:xfrm flipV="1">
            <a:off x="3313080" y="3404160"/>
            <a:ext cx="2699280" cy="6775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040" y="54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ynthes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9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5" idx="3"/>
            <a:endCxn id="11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zufuhr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6640" y="54936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stoff ↓ &gt; Synthese ↓ 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6280" y="549360"/>
            <a:ext cx="55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stoff ↓ &gt; Synthese ↓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oplasie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6" idx="3"/>
            <a:endCxn id="12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dullary-washo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7000" y="54936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stoff ↓ &gt; 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20:48Z</dcterms:modified>
  <cp:revision>337</cp:revision>
  <dc:subject/>
  <dc:title>Vorstellung einer Neuheit</dc:title>
</cp:coreProperties>
</file>